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744D-1A9A-4B08-A3CC-B9F32A999BD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B5AF-3512-4CBE-8FC7-5C4CF4F9436B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946C-DF76-409D-A90C-7D49105FDE1D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65AD-D453-4686-963B-4B5327CB66EA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88D1-3C2E-4FE3-B0D9-B8DF818E1DAD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684B-D70B-4866-B0C5-4C3A6820887A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A61C-55CF-4A64-B68B-8487ADA62CA6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DE76-6D53-449E-9A5C-1E4899AC7E3E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D26-85C1-49B5-82A4-375E43FC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975-C7D5-4AA5-8BBC-CA385572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970-7EC8-468B-8B5B-2D37E933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5DC-76DD-434C-B10D-2217F2AB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71A-EA8D-4523-8DDE-9053BBF3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CB7-08E3-4CA7-A490-431173E2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5F1-6507-4258-A95F-72D1FB02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7E3-E948-49BB-B95F-8BC6EEF5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95B-9E3B-43CF-917B-27B4C8CE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8A9-CB59-43F7-9247-9222ECA1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DF5-BC29-4DD5-BFD4-24EAAE39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166-5CA3-4672-8DAB-30F15DFB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1B1A-AF7D-4223-8B3F-E3A8F9AA697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araibi-srl-sanremo.it/SolePIENO.JPG&amp;imgrefurl=http://blogalquadrato.blogspot.com/2008_04_01_archive.html&amp;usg=__K20Qxz-KZ5VCDArouxMbj0DgS0g=&amp;h=460&amp;w=494&amp;sz=16&amp;hl=it&amp;start=2&amp;sig2=FzCemw-ZPjIpnnxN7ihkLg&amp;um=1&amp;tbnid=kzfxF76RLx3yrM:&amp;tbnh=121&amp;tbnw=130&amp;ei=RA9rSf-YE5bg0QWx4MCbBA&amp;prev=/images%3Fq%3DSOLE%26um%3D1%26hl%3Dit%26rls%3Dcom.microsoft:en-US%26rlz%3D1I7GGLD_it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280" y="1785600"/>
            <a:ext cx="900144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  <a:ea typeface="Tahoma"/>
              </a:rPr>
              <a:t>Il laboratorio della farmacia deve essere </a:t>
            </a:r>
            <a:r>
              <a:rPr b="0" lang="it-IT" sz="2200" spc="-1" strike="noStrike">
                <a:solidFill>
                  <a:srgbClr val="333399"/>
                </a:solidFill>
                <a:latin typeface="Tahoma"/>
                <a:ea typeface="Tahoma"/>
              </a:rPr>
              <a:t>adeguato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  <a:ea typeface="Tahoma"/>
              </a:rPr>
              <a:t> ad assicurare le corrette operazioni di preparazione, confezionamento, etichettatura e controllo dei medicin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  <a:ea typeface="Tahoma"/>
              </a:rPr>
              <a:t>La zona destinata alla preparazione deve essere </a:t>
            </a:r>
            <a:r>
              <a:rPr b="1" lang="it-IT" sz="2200" spc="-1" strike="noStrike">
                <a:solidFill>
                  <a:srgbClr val="ff0000"/>
                </a:solidFill>
                <a:latin typeface="Tahoma"/>
                <a:ea typeface="Tahoma"/>
              </a:rPr>
              <a:t>SEPARATA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  <a:ea typeface="Tahoma"/>
              </a:rPr>
              <a:t> o deve avere la </a:t>
            </a:r>
            <a:r>
              <a:rPr b="1" lang="it-IT" sz="2200" spc="-1" strike="noStrike">
                <a:solidFill>
                  <a:srgbClr val="ff0000"/>
                </a:solidFill>
                <a:latin typeface="Tahoma"/>
                <a:ea typeface="Tahoma"/>
              </a:rPr>
              <a:t>POSSIBILITÀ DI ESSERE ISOLATA</a:t>
            </a:r>
            <a:r>
              <a:rPr b="0" lang="it-IT" sz="2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  <a:ea typeface="Tahoma"/>
              </a:rPr>
              <a:t>mediante una funzionale compartimentazione che ne impedisca l'attravers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Tahoma"/>
                <a:ea typeface="Tahoma"/>
              </a:rPr>
              <a:t>Durante la preparazione </a:t>
            </a:r>
            <a:r>
              <a:rPr b="0" lang="it-IT" sz="22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accesso controllato e riservato al person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14720" y="701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Tahoma"/>
                <a:ea typeface="Tahoma"/>
              </a:rPr>
              <a:t>IL LABOR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42920" y="603360"/>
            <a:ext cx="8858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areti, soffitto e paviment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materiale non poroso, preferibilmente liscio, resistente e non sgretolabile, ...;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ulizia deve avvenire regolarmente secondo procedure appropr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iano di lavor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materiale inerte, resistente, di facile pulizia e disinfezione, se necess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e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ndizioni ambientali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e la luce solare, l'illuminazione, la temperatura, l'umidità ,la ventilazione, ecc. devono essere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appropriate e tali da non esercitare effetti negativi, direttamente o indirettamente, sulla preparazione dei medicinali e sul corretto funzionamento delle apparecchi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l laboratorio deve essere mantenuto sempre libero da qualunqu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infestazion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mediante adeguate misure preven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l laboratorio deve essere soggetto ad un adeguato programma d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manutenzione perio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Le strutture presenti devono essere conformi alla vigente normativa sotto il profilo del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icurez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71280" y="236880"/>
            <a:ext cx="9001440" cy="629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LABORA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l laboratorio della farmacia deve essere adeguato ad assicurare le corrette operazioni di preparazione, confezionamento, etichettatura e controllo della qualità dei medicinali, in più deve essere rapportato alla quantità di preparazioni che vengono allestite in farma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el laboratorio non è consentito svolgere alcuna attività eccetto quella inerente la preparazione dei medicina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ahoma"/>
                <a:ea typeface="Times New Roman"/>
              </a:rPr>
              <a:t>Il laboratorio della farmacia è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ahoma"/>
                <a:ea typeface="Times New Roman"/>
              </a:rPr>
              <a:t>separato dagli altri loc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ahoma"/>
                <a:ea typeface="Times New Roman"/>
              </a:rPr>
              <a:t>separabile dagli altri locali mediante </a:t>
            </a:r>
            <a:r>
              <a:rPr b="1" lang="it-IT" sz="1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	</a:t>
            </a:r>
            <a:r>
              <a:rPr b="1" lang="it-IT" sz="1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	</a:t>
            </a:r>
            <a:r>
              <a:rPr b="1" lang="it-IT" sz="1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	</a:t>
            </a:r>
            <a:r>
              <a:rPr b="1" lang="it-IT" sz="1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n entrambi i casi l’accesso al laboratorio durante l’attività di preparazione è riservato al personale add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l laboratorio è dotato di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areti, soffitto e pavimento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costituiti da materiale non poroso, preferibilmente liscio, resistente e non sgretolabile, privo di parti che perdono il rivestimento, capace di sopportare l’acqua calda e i detergenti. </a:t>
            </a:r>
            <a:r>
              <a:rPr b="1" lang="it-IT" sz="1200" spc="-1" strike="noStrike">
                <a:solidFill>
                  <a:srgbClr val="333399"/>
                </a:solidFill>
                <a:latin typeface="Tahoma"/>
                <a:ea typeface="Times New Roman"/>
              </a:rPr>
              <a:t>(Allegare dichiarazione del costrutto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Le condizioni ambientali (la luce solare, l’illuminazione, la temperatura, l’umidità, la ventilazione, ecc.) sono tali da non esercitare effetti negativi, direttamente o indirettamente, sulla preparazione dei medicinali e sul corretto funzionamento delle apparecchiature; dette condizioni, inoltre, rispettano le vigenti normative nel campo dell’igiene ambientale. </a:t>
            </a:r>
            <a:r>
              <a:rPr b="1" lang="it-IT" sz="1200" spc="-1" strike="noStrike">
                <a:solidFill>
                  <a:srgbClr val="ff0000"/>
                </a:solidFill>
                <a:latin typeface="Tahoma"/>
                <a:ea typeface="Times New Roman"/>
              </a:rPr>
              <a:t>Le condizioni ambientali vengono periodicamente controllate per poter approntare le correzioni del caso. (Allegato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l laboratorio viene mantenuto sempre libero da qualunque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infestazione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mediante le seguenti misure preventive: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descrizione personalizzata della procedura segui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l laboratorio ha un piano di lavoro di materiale inerte, resistente, di facile pulizia e disinfezione, se necess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li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arredi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rispettano le vigenti normative nell’ambito della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icurezza sul lavoro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r>
              <a:rPr b="1" lang="it-IT" sz="1200" spc="-1" strike="noStrike">
                <a:solidFill>
                  <a:srgbClr val="333399"/>
                </a:solidFill>
                <a:latin typeface="Tahoma"/>
                <a:ea typeface="Times New Roman"/>
              </a:rPr>
              <a:t>(Allegare dichiarazione del fornito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li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utensili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e la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vetreria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in dotazione al laboratorio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ispettano le norme vigenti e sono adatte all’attività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svolta del laboratorio stesso. </a:t>
            </a:r>
            <a:r>
              <a:rPr b="1" lang="it-IT" sz="1200" spc="-1" strike="noStrike">
                <a:solidFill>
                  <a:srgbClr val="333399"/>
                </a:solidFill>
                <a:latin typeface="Tahoma"/>
                <a:ea typeface="Times New Roman"/>
              </a:rPr>
              <a:t>(Allegare dichiarazione dei fornito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ahoma"/>
                <a:ea typeface="Times New Roman"/>
              </a:rPr>
              <a:t>Il laboratorio, gli arredi e gli utensili sottostanno alle operazioni di pulizia descritte per ciascuno di essi nella procedura apposi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tella a 12 punte 10"/>
          <p:cNvSpPr/>
          <p:nvPr/>
        </p:nvSpPr>
        <p:spPr>
          <a:xfrm>
            <a:off x="5857920" y="3767040"/>
            <a:ext cx="2786040" cy="25196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ella a 12 punte 9"/>
          <p:cNvSpPr/>
          <p:nvPr/>
        </p:nvSpPr>
        <p:spPr>
          <a:xfrm>
            <a:off x="5715000" y="571680"/>
            <a:ext cx="2928960" cy="2500200"/>
          </a:xfrm>
          <a:prstGeom prst="pie">
            <a:avLst/>
          </a:prstGeom>
          <a:solidFill>
            <a:srgbClr val="eafea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857160" y="534600"/>
            <a:ext cx="1143000" cy="68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Allegat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57160" y="928800"/>
          <a:ext cx="4484880" cy="5532480"/>
        </p:xfrm>
        <a:graphic>
          <a:graphicData uri="http://schemas.openxmlformats.org/drawingml/2006/table">
            <a:tbl>
              <a:tblPr/>
              <a:tblGrid>
                <a:gridCol w="1357560"/>
                <a:gridCol w="571320"/>
                <a:gridCol w="1471680"/>
                <a:gridCol w="1084320"/>
              </a:tblGrid>
              <a:tr h="335160"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SE: </a:t>
                      </a:r>
                      <a:r>
                        <a:rPr b="1" lang="it-IT" sz="11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IO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MPERATURA (°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.R.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6" name="Picture 171" descr="http://tbn1.google.com/images?q=tbn:kzfxF76RLx3yrM:http://www.caraibi-srl-sanremo.it/SolePIEN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6680" y="928800"/>
            <a:ext cx="1908000" cy="1776240"/>
          </a:xfrm>
          <a:prstGeom prst="rect">
            <a:avLst/>
          </a:prstGeom>
          <a:ln w="0">
            <a:noFill/>
          </a:ln>
        </p:spPr>
      </p:pic>
      <p:sp>
        <p:nvSpPr>
          <p:cNvPr id="57" name="Freccia bidirezionale verticale 5"/>
          <p:cNvSpPr/>
          <p:nvPr/>
        </p:nvSpPr>
        <p:spPr>
          <a:xfrm>
            <a:off x="7143840" y="3143160"/>
            <a:ext cx="285840" cy="714600"/>
          </a:xfrm>
          <a:prstGeom prst="upDownArrow">
            <a:avLst>
              <a:gd name="adj1" fmla="val 50000"/>
              <a:gd name="adj2" fmla="val 49769"/>
            </a:avLst>
          </a:prstGeom>
          <a:solidFill>
            <a:srgbClr val="ffff00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75" descr="http://tbn2.google.com/images?q=tbn:veWWdYaTsJscmM:http://freestylematese.it/wp-content/2008/01/neve.jpg"/>
          <p:cNvPicPr/>
          <p:nvPr/>
        </p:nvPicPr>
        <p:blipFill>
          <a:blip r:embed="rId3"/>
          <a:stretch/>
        </p:blipFill>
        <p:spPr>
          <a:xfrm>
            <a:off x="6286680" y="407196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71280" y="109080"/>
            <a:ext cx="8964720" cy="666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UTOISPEZIONE DEL LABORA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’autoispezione del laboratorio, effettuata dal titolare/direttore della farmacia, deve essere documentata formalmen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L’autoispezione viene effettuata annualment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e la sua documentazione (vedere allegato 1) viene conservata secondo quanto previsto nella procedura “Archiviazione e conservazione della documentazion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l rapporto dell’autoispezione riporta la data dell’ispezione, il contenuto dell’ispezione e le azioni correttive da effettuarsi, la firma di chi ha effettuato l’autoispe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urante l’ispezion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i verifica la corretta applicazione delle procedure stabilite, con particolare attenzione per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idoneità ed archiviazione della documentazio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idoneità dei loca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idoneità degli arred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idoneità delle attrezzatur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idoneità delle materie prim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idoneità dei materiali di confezion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  <a:ea typeface="Times New Roman"/>
              </a:rPr>
              <a:t>A seguito dell’ispezione il farmacista responsabile della farmacia verifica che il farmacista responsabile del laboratorio metta in atto le azioni correttive emerse durante l’ispe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Qualora ci si avvalga di contratti esterni il titolare/direttore della farmacia verificherà la correttezza del lavoro eseguito, come previsto dalla procedura “contratti esterni”, allegando adeguata documen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tangolo 5"/>
          <p:cNvSpPr/>
          <p:nvPr/>
        </p:nvSpPr>
        <p:spPr>
          <a:xfrm>
            <a:off x="142920" y="71280"/>
            <a:ext cx="8820000" cy="673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28760" y="1052640"/>
          <a:ext cx="8370720" cy="1066680"/>
        </p:xfrm>
        <a:graphic>
          <a:graphicData uri="http://schemas.openxmlformats.org/drawingml/2006/table">
            <a:tbl>
              <a:tblPr/>
              <a:tblGrid>
                <a:gridCol w="4697280"/>
                <a:gridCol w="3673440"/>
              </a:tblGrid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E CHE HA PARTECIPATO ALL’ISPE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UOLO ALL’INTERNO DELLA FARMA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28760" y="2360520"/>
          <a:ext cx="8518320" cy="2346480"/>
        </p:xfrm>
        <a:graphic>
          <a:graphicData uri="http://schemas.openxmlformats.org/drawingml/2006/table">
            <a:tbl>
              <a:tblPr/>
              <a:tblGrid>
                <a:gridCol w="5786280"/>
                <a:gridCol w="1143000"/>
                <a:gridCol w="1589040"/>
              </a:tblGrid>
              <a:tr h="42660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ENUTO DELL’ISPE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OR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 CONFOR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Archiviazione ed idoneità della documentazio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Idoneità del personale con particolare riferimento alla vestizione, alle mansioni ed alla responsabilità affida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Idoneità dei locali 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materiali di costruzione, manutenzione, pulizia ed eventuale disinfezio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Idoneità delle materie prime 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conservazione e documentazione relativ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Idoneità delle attrezzature 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conservazione, pulizia, manutenzione e documentazione relativ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Idoneità dei materiali di confezionamento 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conservazione, eventuale stato di pulizia, documentazione relativ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357120" y="145800"/>
            <a:ext cx="850104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Allegato 1 – Rapporto di autoispe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357120" y="4866840"/>
            <a:ext cx="842976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Descrizione della “Non conformità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isi delle c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zioni correttive emerse durante l’ispezione con relativa tempistica e responsabilità per la risol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ahoma"/>
              </a:rPr>
              <a:t>Firma dei pres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ttangolo 5"/>
          <p:cNvSpPr/>
          <p:nvPr/>
        </p:nvSpPr>
        <p:spPr>
          <a:xfrm>
            <a:off x="142920" y="71280"/>
            <a:ext cx="8820000" cy="673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28760" y="571680"/>
          <a:ext cx="8370720" cy="731520"/>
        </p:xfrm>
        <a:graphic>
          <a:graphicData uri="http://schemas.openxmlformats.org/drawingml/2006/table">
            <a:tbl>
              <a:tblPr/>
              <a:tblGrid>
                <a:gridCol w="4697280"/>
                <a:gridCol w="3673440"/>
              </a:tblGrid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E CHE HA PARTECIPATO ALL’ISPE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UOLO ALL’INTERNO DELLA FARMA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ott.  Antonio Ros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itolare della farma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ott. Mario Bianch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rmacista responsabile del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ott.ssa Anna Ver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rmacista collabora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85840" y="1428840"/>
          <a:ext cx="8518320" cy="2011320"/>
        </p:xfrm>
        <a:graphic>
          <a:graphicData uri="http://schemas.openxmlformats.org/drawingml/2006/table">
            <a:tbl>
              <a:tblPr/>
              <a:tblGrid>
                <a:gridCol w="5786280"/>
                <a:gridCol w="1143000"/>
                <a:gridCol w="1589040"/>
              </a:tblGrid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ENUTO DELL’ISPE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 CO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Archiviazione ed idoneità della documentazio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Idoneità del personale con particolare riferimento alla vestizione, alle mansioni ed alla responsabilità affidat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 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Idoneità dei locali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materiali di costruzione, manutenzione, pulizia ed eventuale disinfezione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Idoneità delle materie prime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conservazione e documentazione relativa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Idoneità delle attrezzature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conservazione, pulizia, manutenzione e documentazione relativa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Idoneità dei materiali di confezionamento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conservazione, eventuale stato di pulizia, documentazione relativa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357120" y="142920"/>
            <a:ext cx="8501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Allegato 1 – Rapporto di autoispezione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07/0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214200" y="3427200"/>
            <a:ext cx="8786880" cy="33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Descrizione della “Non conformità”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1) il personale non indossa un camice dedicato durante la permanenza in labora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2) i confezionamenti primari tipo pulvis non risultano adeguatamente pul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isi delle 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1) il personale non indossa un camice dedicato per dimentic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2) i confezionamenti primari tipo pulvis non risultano adeguatamente puliti perché non sono stati sistemati in un contenitore idon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Azioni correttive emerse durante l’ispezione con relativa tempistica e responsabilità per la risolu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1) La dott.ssa Anna Verdi è stata incaricata di verificare che tutto il personale operante in laboratorio indossi un camice dedic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1 bis) Sulla porta del laboratorio è stato apposto un cartello indicatore che ricordi agli operatori di indossare camici dedic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2) i confezionamenti primari tipo pulvis  sono stati riposti in un contenitore di idonee dimensioni dotato di coperchio che impedisca l’ingresso della polv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Firma dei presenti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xxx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www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zz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9:34:43Z</dcterms:created>
  <dc:creator>...</dc:creator>
  <dc:description/>
  <dc:language>en-US</dc:language>
  <cp:lastModifiedBy>...</cp:lastModifiedBy>
  <dcterms:modified xsi:type="dcterms:W3CDTF">2009-05-14T19:50:29Z</dcterms:modified>
  <cp:revision>2</cp:revision>
  <dc:subject/>
  <dc:title>Diapositiva 1</dc:title>
</cp:coreProperties>
</file>